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0691813" cy="7559675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5"/>
          </p:nvPr>
        </p:nvSpPr>
        <p:spPr>
          <a:xfrm>
            <a:off x="-36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6"/>
          </p:nvPr>
        </p:nvSpPr>
        <p:spPr>
          <a:xfrm>
            <a:off x="579708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925EB8-8C93-472F-9310-96A42B9904D8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735120" y="3706920"/>
            <a:ext cx="878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79600" y="3495600"/>
            <a:ext cx="9654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962520"/>
                <a:tab algn="r" pos="638172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宋体"/>
              </a:rPr>
              <a:t>2006 Std Template – Markets – Letter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       T1PPTT002 Rev. 2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宋体"/>
              </a:rPr>
              <a:t>May 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01" descr=""/>
          <p:cNvPicPr/>
          <p:nvPr/>
        </p:nvPicPr>
        <p:blipFill>
          <a:blip r:embed="rId2"/>
          <a:stretch/>
        </p:blipFill>
        <p:spPr>
          <a:xfrm>
            <a:off x="0" y="0"/>
            <a:ext cx="10234440" cy="4190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6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-49680" bIns="-49680" anchor="ctr">
            <a:noAutofit/>
          </a:bodyPr>
          <a:p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F24081-4EEE-4BD0-B3E7-B34D200436C7}" type="slidenum">
              <a:rPr b="0" lang="zh-CN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s Option Title Placeh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ormat that you see here can be used for on-screen presentations, overheads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or prints and B/W prints. Changing this page setup will alter the shape of man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jects, including the Solectron logo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b30538"/>
                </a:solidFill>
                <a:latin typeface="Arial"/>
              </a:rPr>
              <a:t>DO NOT CHANGE THE PAGE SETU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30538"/>
                </a:solidFill>
                <a:latin typeface="Arial"/>
              </a:rPr>
              <a:t>There is a separate template for the “A4” vers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nt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tle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pt, bold, blue, up to three lines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tle Case (except prepositions), flush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er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pt, bold, black, flush left, Title Case (except prepo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er’s Title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pt, bold, gray, flush left, Title Case (except prepo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pt, regular, g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ectron Confidential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pt, bold, black (use only if necessary – delete from this p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6CA7F3-D688-4E0D-8818-BD306834CB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05E6FC-5D1D-417E-88A8-D7910ABD59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9730F6-83EC-4ADD-8A80-7266FDCAA5F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2E685C-5ED5-434F-8903-48ADF0FB0A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E74C23-3BA9-46FE-AFAA-6D6BEB2750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674800" y="55440"/>
            <a:ext cx="4856400" cy="3434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60160" y="3754440"/>
            <a:ext cx="91090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360-4D52-4797-A921-A52DFF28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1B4-08EC-4205-9451-D228E13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7D4-3A88-476C-8967-01C79EA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F60-6195-41A4-93EC-E1332F35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5DF-051C-4B72-82DC-55798C2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63A-5BEE-4876-B7F6-F3680B3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301-EA50-410C-9F54-C499272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52A-ECD1-45D2-A57B-D1F39C3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FF9-C3DF-45D8-9E50-44CA82F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AB7-1D18-4518-89AF-C8CF012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4DE-76F2-449D-AA19-D6F63293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0D2-CDEE-428A-B883-15046DD7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5D187-D998-4305-9F50-410BDEE6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BEE6E-B5CE-4DB8-887E-4DC667B5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EEC01-6441-497D-9526-056E296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9E98D-6475-4C3E-8EC6-03FCDA9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DFBA4-9658-4051-853D-0DE6F4B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A1F03-45D6-42AD-AF16-1A08F72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7F70A-5F07-4C2D-8A77-B5601F6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84790-F550-4A42-B109-D3EC739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DF7BB-B0E4-41CC-83C9-8A99169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A2D70-4A5F-41A4-9FC2-1B09BE70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8B311-E395-40E0-B691-8E18CC87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8E071-7B38-4C66-8F64-66F2DB56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B5E69-41E2-4DB5-8B14-6DDBCF32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79B62-ECF8-40E0-9DA7-055CB03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A4BD6-FC77-4453-BDC2-DA4F3F59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88B71-3583-49B6-BBF6-F1D306B9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E292B-E631-413E-951D-8DCDF73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F3806-7E8C-4301-8B85-AECAD637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2E558-304D-406B-8F94-326F6A0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A5DDC-B919-4526-ADCA-9C0F8F2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CB324-B392-4966-810E-AB2A08B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F33A0-2EAC-4782-AB9E-0BD8077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26672-5CE2-4B5F-9414-9EF4BE1F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61016-FEA0-42B1-A812-4693851A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A6DC-2486-432C-87AD-530D90D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E636-8D3D-40A4-BAF7-0B47A30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D510-9EB4-4C4D-9CEE-DEE184F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C784-F037-4BC6-AF58-679EC339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4FA9-D9AE-4BBC-82FE-0E20DC03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34960" y="506160"/>
            <a:ext cx="962352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14F6-CD7C-4B1B-9D6D-78626263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FA9C-3D85-4E1F-9A3A-A6C240C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97B7-DBE9-4511-8D49-22E1E71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F980-6C81-41BE-B3F8-2BB4685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5DF6-13CC-4F4D-8750-CF56FB8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640A-4F8B-4D14-B185-DA35ACC2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8864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042680" y="218448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3496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78864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042680" y="4422600"/>
            <a:ext cx="3098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3A87-317D-4EBA-AF98-EF8E8CE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42260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184480"/>
            <a:ext cx="469620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422600"/>
            <a:ext cx="9623520" cy="2043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36240"/>
            <a:ext cx="10267920" cy="70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2b5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52b59"/>
              </a:solidFill>
              <a:latin typeface="Arial"/>
            </a:endParaRPr>
          </a:p>
        </p:txBody>
      </p:sp>
      <p:sp>
        <p:nvSpPr>
          <p:cNvPr id="1" name="Line 5"/>
          <p:cNvSpPr/>
          <p:nvPr/>
        </p:nvSpPr>
        <p:spPr>
          <a:xfrm flipV="1">
            <a:off x="262080" y="839520"/>
            <a:ext cx="10159920" cy="3240"/>
          </a:xfrm>
          <a:prstGeom prst="line">
            <a:avLst/>
          </a:prstGeom>
          <a:ln w="9360">
            <a:solidFill>
              <a:srgbClr val="052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5348160" y="1763640"/>
            <a:ext cx="4810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480" y="7140240"/>
            <a:ext cx="2228760" cy="252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i-flying 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focus on wireless design 拷贝"/>
          <p:cNvPicPr/>
          <p:nvPr/>
        </p:nvPicPr>
        <p:blipFill>
          <a:blip r:embed="rId2"/>
          <a:stretch/>
        </p:blipFill>
        <p:spPr>
          <a:xfrm>
            <a:off x="2762280" y="6691320"/>
            <a:ext cx="7931160" cy="870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01" descr=""/>
          <p:cNvPicPr/>
          <p:nvPr/>
        </p:nvPicPr>
        <p:blipFill>
          <a:blip r:embed="rId3"/>
          <a:stretch/>
        </p:blipFill>
        <p:spPr>
          <a:xfrm>
            <a:off x="0" y="0"/>
            <a:ext cx="1069344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3651120" y="6889680"/>
            <a:ext cx="3391200" cy="50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7660800" y="6889680"/>
            <a:ext cx="2497320" cy="50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07F-63C4-4D95-B5F0-D551662732B7}" type="slidenum">
              <a:rPr b="0" lang="zh-CN" sz="13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0" y="0"/>
            <a:ext cx="10693080" cy="601200"/>
            <a:chOff x="0" y="0"/>
            <a:chExt cx="10693080" cy="601200"/>
          </a:xfrm>
        </p:grpSpPr>
        <p:sp>
          <p:nvSpPr>
            <p:cNvPr id="45" name="Rectangle 5"/>
            <p:cNvSpPr/>
            <p:nvPr/>
          </p:nvSpPr>
          <p:spPr>
            <a:xfrm>
              <a:off x="0" y="0"/>
              <a:ext cx="334080" cy="587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82760" y="148680"/>
              <a:ext cx="10210320" cy="3002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478800" y="148680"/>
              <a:ext cx="159480" cy="155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640080" y="0"/>
              <a:ext cx="163080" cy="151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40080" y="148680"/>
              <a:ext cx="163080" cy="15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321120" y="302400"/>
              <a:ext cx="159480" cy="146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154080" y="150120"/>
              <a:ext cx="164880" cy="1519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478800" y="298800"/>
              <a:ext cx="159480" cy="15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321120" y="451080"/>
              <a:ext cx="159480" cy="150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4240" indent="-35424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7520" indent="-2955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9000" indent="-2332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54200" indent="-23796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24720" indent="-2322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24720" indent="-2322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24720" indent="-2322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4"/>
          </p:nvPr>
        </p:nvSpPr>
        <p:spPr>
          <a:xfrm>
            <a:off x="534600" y="6883560"/>
            <a:ext cx="2497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focus on wireless design 拷贝"/>
          <p:cNvPicPr/>
          <p:nvPr/>
        </p:nvPicPr>
        <p:blipFill>
          <a:blip r:embed="rId2"/>
          <a:stretch/>
        </p:blipFill>
        <p:spPr>
          <a:xfrm>
            <a:off x="2762280" y="6691320"/>
            <a:ext cx="793116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1" descr=""/>
          <p:cNvPicPr/>
          <p:nvPr/>
        </p:nvPicPr>
        <p:blipFill>
          <a:blip r:embed="rId3"/>
          <a:stretch/>
        </p:blipFill>
        <p:spPr>
          <a:xfrm>
            <a:off x="0" y="0"/>
            <a:ext cx="1069344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4960" y="322200"/>
            <a:ext cx="9623520" cy="1525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4960" y="2099880"/>
            <a:ext cx="9623520" cy="453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1140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41280" indent="-24588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41320" indent="-2505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36680" indent="-24444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36680" indent="-24444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36680" indent="-24444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534600" y="6883560"/>
            <a:ext cx="2497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651120" y="6883560"/>
            <a:ext cx="339120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7"/>
          </p:nvPr>
        </p:nvSpPr>
        <p:spPr>
          <a:xfrm>
            <a:off x="7660800" y="6883560"/>
            <a:ext cx="2497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89A-B391-41B8-83C9-1DDF0BBA3C2B}" type="slidenum">
              <a: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focus on wireless design 拷贝"/>
          <p:cNvPicPr/>
          <p:nvPr/>
        </p:nvPicPr>
        <p:blipFill>
          <a:blip r:embed="rId3"/>
          <a:stretch/>
        </p:blipFill>
        <p:spPr>
          <a:xfrm>
            <a:off x="2762280" y="6691320"/>
            <a:ext cx="7931160" cy="87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1" descr=""/>
          <p:cNvPicPr/>
          <p:nvPr/>
        </p:nvPicPr>
        <p:blipFill>
          <a:blip r:embed="rId4"/>
          <a:stretch/>
        </p:blipFill>
        <p:spPr>
          <a:xfrm>
            <a:off x="0" y="0"/>
            <a:ext cx="1069344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32" descr="focus on wireless design 拷贝"/>
          <p:cNvPicPr/>
          <p:nvPr/>
        </p:nvPicPr>
        <p:blipFill>
          <a:blip r:embed="rId2"/>
          <a:stretch/>
        </p:blipFill>
        <p:spPr>
          <a:xfrm>
            <a:off x="2651040" y="6676920"/>
            <a:ext cx="8042400" cy="884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336240"/>
            <a:ext cx="10267920" cy="70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2b5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52b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10693080" cy="7561080"/>
            <a:chOff x="0" y="0"/>
            <a:chExt cx="10693080" cy="756108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4098960" cy="756108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2006640" y="1863720"/>
              <a:ext cx="8686440" cy="279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1175760"/>
              <a:ext cx="3352320" cy="3483000"/>
              <a:chOff x="0" y="1175760"/>
              <a:chExt cx="3352320" cy="3483000"/>
            </a:xfrm>
          </p:grpSpPr>
          <p:sp>
            <p:nvSpPr>
              <p:cNvPr id="180" name="Rectangle 6"/>
              <p:cNvSpPr/>
              <p:nvPr/>
            </p:nvSpPr>
            <p:spPr>
              <a:xfrm>
                <a:off x="669960" y="3951720"/>
                <a:ext cx="673920" cy="707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>
                <a:off x="2006640" y="1863360"/>
                <a:ext cx="671760" cy="708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"/>
              <p:cNvSpPr/>
              <p:nvPr/>
            </p:nvSpPr>
            <p:spPr>
              <a:xfrm>
                <a:off x="2667600" y="1175760"/>
                <a:ext cx="684720" cy="699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1334880" y="3951720"/>
                <a:ext cx="682560" cy="7070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"/>
              <p:cNvSpPr/>
              <p:nvPr/>
            </p:nvSpPr>
            <p:spPr>
              <a:xfrm>
                <a:off x="2667600" y="1863360"/>
                <a:ext cx="684720" cy="708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1"/>
              <p:cNvSpPr/>
              <p:nvPr/>
            </p:nvSpPr>
            <p:spPr>
              <a:xfrm>
                <a:off x="1334880" y="2562120"/>
                <a:ext cx="682560" cy="698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0" y="2562120"/>
                <a:ext cx="681120" cy="6980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"/>
              <p:cNvSpPr/>
              <p:nvPr/>
            </p:nvSpPr>
            <p:spPr>
              <a:xfrm>
                <a:off x="2006640" y="2562120"/>
                <a:ext cx="671760" cy="698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4"/>
              <p:cNvSpPr/>
              <p:nvPr/>
            </p:nvSpPr>
            <p:spPr>
              <a:xfrm>
                <a:off x="669960" y="3251520"/>
                <a:ext cx="673920" cy="708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1334880" y="3251520"/>
                <a:ext cx="682560" cy="708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0" name="Picture 10" descr="focus on wireless design 拷贝"/>
          <p:cNvPicPr/>
          <p:nvPr/>
        </p:nvPicPr>
        <p:blipFill>
          <a:blip r:embed="rId2"/>
          <a:stretch/>
        </p:blipFill>
        <p:spPr>
          <a:xfrm>
            <a:off x="2762280" y="6691320"/>
            <a:ext cx="7931160" cy="870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01" descr=""/>
          <p:cNvPicPr/>
          <p:nvPr/>
        </p:nvPicPr>
        <p:blipFill>
          <a:blip r:embed="rId3"/>
          <a:stretch/>
        </p:blipFill>
        <p:spPr>
          <a:xfrm>
            <a:off x="0" y="0"/>
            <a:ext cx="10693440" cy="8082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506160"/>
            <a:ext cx="9623520" cy="1508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34960" y="2184480"/>
            <a:ext cx="9623520" cy="42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4240" indent="-35424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7520" indent="-2955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9000" indent="-2332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54200" indent="-23796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24720" indent="-23220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24720" indent="-2322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24720" indent="-2322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8"/>
          </p:nvPr>
        </p:nvSpPr>
        <p:spPr>
          <a:xfrm>
            <a:off x="534600" y="6889680"/>
            <a:ext cx="2497320" cy="50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9"/>
          </p:nvPr>
        </p:nvSpPr>
        <p:spPr>
          <a:xfrm>
            <a:off x="3651120" y="6889680"/>
            <a:ext cx="3391200" cy="50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0"/>
          </p:nvPr>
        </p:nvSpPr>
        <p:spPr>
          <a:xfrm>
            <a:off x="7660800" y="6889680"/>
            <a:ext cx="2497320" cy="503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DD1-EB6F-4873-B567-37A1BDEF3994}" type="slidenum">
              <a:rPr b="0" lang="zh-CN" sz="13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4"/>
          <p:cNvSpPr/>
          <p:nvPr/>
        </p:nvSpPr>
        <p:spPr>
          <a:xfrm>
            <a:off x="336600" y="3090960"/>
            <a:ext cx="360" cy="334620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focus on wireless design 拷贝"/>
          <p:cNvPicPr/>
          <p:nvPr/>
        </p:nvPicPr>
        <p:blipFill>
          <a:blip r:embed="rId3"/>
          <a:stretch/>
        </p:blipFill>
        <p:spPr>
          <a:xfrm>
            <a:off x="2762280" y="6691320"/>
            <a:ext cx="7931160" cy="87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01" descr=""/>
          <p:cNvPicPr/>
          <p:nvPr/>
        </p:nvPicPr>
        <p:blipFill>
          <a:blip r:embed="rId4"/>
          <a:stretch/>
        </p:blipFill>
        <p:spPr>
          <a:xfrm>
            <a:off x="0" y="0"/>
            <a:ext cx="10693440" cy="808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960" y="322200"/>
            <a:ext cx="9623520" cy="1525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4960" y="2099880"/>
            <a:ext cx="9623520" cy="453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1140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41280" indent="-24588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41320" indent="-2505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36680" indent="-24444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36680" indent="-24444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36680" indent="-24444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1"/>
          </p:nvPr>
        </p:nvSpPr>
        <p:spPr>
          <a:xfrm>
            <a:off x="3651120" y="6883560"/>
            <a:ext cx="339120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7660800" y="6883560"/>
            <a:ext cx="2497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FBA-1506-4098-87F8-5D1080A84F48}" type="slidenum">
              <a:rPr b="0" lang="zh-CN" sz="15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dt" idx="13"/>
          </p:nvPr>
        </p:nvSpPr>
        <p:spPr>
          <a:xfrm>
            <a:off x="534600" y="6883560"/>
            <a:ext cx="2497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3600" y="2583000"/>
            <a:ext cx="9964800" cy="1753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HF-LPF100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Arial"/>
              </a:rPr>
              <a:t>系列</a:t>
            </a:r>
            <a:br>
              <a:rPr sz="3900"/>
            </a:br>
            <a:r>
              <a:rPr b="1" sz="3900" spc="-1" strike="noStrike">
                <a:solidFill>
                  <a:srgbClr val="000000"/>
                </a:solidFill>
                <a:latin typeface="Arial"/>
                <a:ea typeface="Arial"/>
              </a:rPr>
              <a:t>嵌入式</a:t>
            </a:r>
            <a:r>
              <a:rPr b="1" sz="3900" spc="-1" strike="noStrike">
                <a:solidFill>
                  <a:srgbClr val="000000"/>
                </a:solidFill>
                <a:latin typeface="Arial"/>
                <a:ea typeface="Arial"/>
              </a:rPr>
              <a:t>WIFI</a:t>
            </a:r>
            <a:r>
              <a:rPr b="1" sz="3900" spc="-1" strike="noStrike">
                <a:solidFill>
                  <a:srgbClr val="000000"/>
                </a:solidFill>
                <a:latin typeface="Arial"/>
                <a:ea typeface="Arial"/>
              </a:rPr>
              <a:t>模组升级和调试流程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601" descr=""/>
          <p:cNvPicPr/>
          <p:nvPr/>
        </p:nvPicPr>
        <p:blipFill>
          <a:blip r:embed="rId1"/>
          <a:stretch/>
        </p:blipFill>
        <p:spPr>
          <a:xfrm>
            <a:off x="0" y="1739880"/>
            <a:ext cx="10693440" cy="744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152280" y="1911240"/>
            <a:ext cx="5729400" cy="41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上海汉枫电子科技有限公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" descr=""/>
          <p:cNvPicPr/>
          <p:nvPr/>
        </p:nvPicPr>
        <p:blipFill>
          <a:blip r:embed="rId2"/>
          <a:stretch/>
        </p:blipFill>
        <p:spPr>
          <a:xfrm>
            <a:off x="3794040" y="4152960"/>
            <a:ext cx="31035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focus on wireless design 拷贝"/>
          <p:cNvPicPr/>
          <p:nvPr/>
        </p:nvPicPr>
        <p:blipFill>
          <a:blip r:embed="rId1"/>
          <a:stretch/>
        </p:blipFill>
        <p:spPr>
          <a:xfrm>
            <a:off x="0" y="6638760"/>
            <a:ext cx="10693440" cy="922680"/>
          </a:xfrm>
          <a:prstGeom prst="rect">
            <a:avLst/>
          </a:prstGeom>
          <a:ln w="0">
            <a:noFill/>
          </a:ln>
        </p:spPr>
      </p:pic>
      <p:sp>
        <p:nvSpPr>
          <p:cNvPr id="292" name="Line 40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108000" y="246240"/>
            <a:ext cx="7626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 fontScale="7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F-LPF10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Arial"/>
              </a:rPr>
              <a:t>模块说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267480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609480" y="1974960"/>
            <a:ext cx="9522000" cy="160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09480" y="5664240"/>
            <a:ext cx="9253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PIN25, PIN2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是通讯串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PIN 19, PIN2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是调试串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2"/>
          <a:stretch/>
        </p:blipFill>
        <p:spPr>
          <a:xfrm>
            <a:off x="2427120" y="1368360"/>
            <a:ext cx="513432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focus on wireless design 拷贝"/>
          <p:cNvPicPr/>
          <p:nvPr/>
        </p:nvPicPr>
        <p:blipFill>
          <a:blip r:embed="rId1"/>
          <a:stretch/>
        </p:blipFill>
        <p:spPr>
          <a:xfrm>
            <a:off x="0" y="6638760"/>
            <a:ext cx="10693440" cy="922680"/>
          </a:xfrm>
          <a:prstGeom prst="rect">
            <a:avLst/>
          </a:prstGeom>
          <a:ln w="0">
            <a:noFill/>
          </a:ln>
        </p:spPr>
      </p:pic>
      <p:sp>
        <p:nvSpPr>
          <p:cNvPr id="300" name="Line 40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2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08000" y="246240"/>
            <a:ext cx="7626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 fontScale="7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F-LPF10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Arial"/>
              </a:rPr>
              <a:t>模块硬件接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267480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885960" y="4290840"/>
            <a:ext cx="925344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上图左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连接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口，右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S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连接到通讯串口，烧录固件时需下拉调试串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阻）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复位之后模块进入程序烧录过程，查看调试串口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5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波特率）可以看到如下的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6" descr=""/>
          <p:cNvPicPr/>
          <p:nvPr/>
        </p:nvPicPr>
        <p:blipFill>
          <a:blip r:embed="rId2"/>
          <a:stretch/>
        </p:blipFill>
        <p:spPr>
          <a:xfrm>
            <a:off x="885960" y="5276880"/>
            <a:ext cx="8970840" cy="1361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" descr=""/>
          <p:cNvPicPr/>
          <p:nvPr/>
        </p:nvPicPr>
        <p:blipFill>
          <a:blip r:embed="rId3"/>
          <a:stretch/>
        </p:blipFill>
        <p:spPr>
          <a:xfrm>
            <a:off x="5075280" y="839880"/>
            <a:ext cx="4732200" cy="345096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" descr=""/>
          <p:cNvPicPr/>
          <p:nvPr/>
        </p:nvPicPr>
        <p:blipFill>
          <a:blip r:embed="rId4"/>
          <a:stretch/>
        </p:blipFill>
        <p:spPr>
          <a:xfrm>
            <a:off x="406440" y="1303200"/>
            <a:ext cx="4498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focus on wireless design 拷贝"/>
          <p:cNvPicPr/>
          <p:nvPr/>
        </p:nvPicPr>
        <p:blipFill>
          <a:blip r:embed="rId1"/>
          <a:stretch/>
        </p:blipFill>
        <p:spPr>
          <a:xfrm>
            <a:off x="0" y="6638760"/>
            <a:ext cx="10693440" cy="922680"/>
          </a:xfrm>
          <a:prstGeom prst="rect">
            <a:avLst/>
          </a:prstGeom>
          <a:ln w="0">
            <a:noFill/>
          </a:ln>
        </p:spPr>
      </p:pic>
      <p:sp>
        <p:nvSpPr>
          <p:cNvPr id="309" name="Line 40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2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08000" y="246240"/>
            <a:ext cx="7626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 fontScale="7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Arial"/>
              </a:rPr>
              <a:t>使用工具升级程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267480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269244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554040" y="1030320"/>
            <a:ext cx="9371160" cy="91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打开烧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ageTool.ex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ip  Selec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721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口选择调试烧录串口，加载程序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ag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文件），下拉烧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口之后复位模块，点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wnloa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烧录程序，烧录完成后，断开烧录串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拉低的跳线，复位后模块正常工作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V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灯亮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1" descr=""/>
          <p:cNvPicPr/>
          <p:nvPr/>
        </p:nvPicPr>
        <p:blipFill>
          <a:blip r:embed="rId2"/>
          <a:stretch/>
        </p:blipFill>
        <p:spPr>
          <a:xfrm>
            <a:off x="549360" y="2289240"/>
            <a:ext cx="4797360" cy="48117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3" descr=""/>
          <p:cNvPicPr/>
          <p:nvPr/>
        </p:nvPicPr>
        <p:blipFill>
          <a:blip r:embed="rId3"/>
          <a:stretch/>
        </p:blipFill>
        <p:spPr>
          <a:xfrm>
            <a:off x="5508720" y="5607000"/>
            <a:ext cx="2779560" cy="10857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2"/>
          <p:cNvSpPr/>
          <p:nvPr/>
        </p:nvSpPr>
        <p:spPr>
          <a:xfrm>
            <a:off x="5508720" y="5300640"/>
            <a:ext cx="3405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功后工具显示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focus on wireless design 拷贝"/>
          <p:cNvPicPr/>
          <p:nvPr/>
        </p:nvPicPr>
        <p:blipFill>
          <a:blip r:embed="rId1"/>
          <a:stretch/>
        </p:blipFill>
        <p:spPr>
          <a:xfrm>
            <a:off x="0" y="6638760"/>
            <a:ext cx="10693440" cy="922680"/>
          </a:xfrm>
          <a:prstGeom prst="rect">
            <a:avLst/>
          </a:prstGeom>
          <a:ln w="0">
            <a:noFill/>
          </a:ln>
        </p:spPr>
      </p:pic>
      <p:sp>
        <p:nvSpPr>
          <p:cNvPr id="319" name="Line 40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2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08000" y="246240"/>
            <a:ext cx="7626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 fontScale="7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Arial"/>
              </a:rPr>
              <a:t>使用工具升级程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267480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269244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54040" y="1030320"/>
            <a:ext cx="9371160" cy="18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之后模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灯亮起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输出打印信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+NDBGL=1,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能调试串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输出调试信息），如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地址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CF23FF888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+WSM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，可用如下命令修改模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地址，让程序正常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AT+WSMAC=8888,98D8630F7736,B3C0C6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AT+WSMAC=8888,98D8630F7742,ACCD90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AT+WSMAC=8888,98D8630F7768,4298744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4" descr=""/>
          <p:cNvPicPr/>
          <p:nvPr/>
        </p:nvPicPr>
        <p:blipFill>
          <a:blip r:embed="rId2"/>
          <a:stretch/>
        </p:blipFill>
        <p:spPr>
          <a:xfrm>
            <a:off x="554040" y="2894040"/>
            <a:ext cx="950436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focus on wireless design 拷贝"/>
          <p:cNvPicPr/>
          <p:nvPr/>
        </p:nvPicPr>
        <p:blipFill>
          <a:blip r:embed="rId1"/>
          <a:stretch/>
        </p:blipFill>
        <p:spPr>
          <a:xfrm>
            <a:off x="0" y="6638760"/>
            <a:ext cx="10693440" cy="922680"/>
          </a:xfrm>
          <a:prstGeom prst="rect">
            <a:avLst/>
          </a:prstGeom>
          <a:ln w="0">
            <a:noFill/>
          </a:ln>
        </p:spPr>
      </p:pic>
      <p:sp>
        <p:nvSpPr>
          <p:cNvPr id="327" name="Line 40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2"/>
          <p:cNvSpPr/>
          <p:nvPr/>
        </p:nvSpPr>
        <p:spPr>
          <a:xfrm>
            <a:off x="264960" y="839880"/>
            <a:ext cx="1016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08000" y="246240"/>
            <a:ext cx="7626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 fontScale="76000"/>
          </a:bodyPr>
          <a:p>
            <a:pPr marL="330480" indent="-330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使用网页升级应用程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267480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2692440"/>
            <a:ext cx="360" cy="40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64960" y="861840"/>
            <a:ext cx="1009512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直连模块的热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.10.100.254/iweb.html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者模块已连入路由器的情况下用路由器分配给模块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192.168.0.117/iweb.html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进入模块的内部网页，网页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F-LPT2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完全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371600" y="2058840"/>
            <a:ext cx="7470720" cy="427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2:34:37Z</dcterms:created>
  <dc:creator>RFSIP INC</dc:creator>
  <dc:description/>
  <dc:language>en-US</dc:language>
  <cp:lastModifiedBy>Sam Gong</cp:lastModifiedBy>
  <cp:lastPrinted>2012-05-09T11:53:41Z</cp:lastPrinted>
  <dcterms:modified xsi:type="dcterms:W3CDTF">2020-03-23T06:04:42Z</dcterms:modified>
  <cp:revision>824</cp:revision>
  <dc:subject>RFSIP INC</dc:subject>
  <dc:title>RFSIP IN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RFSIP Inc">
    <vt:lpwstr>RFSIP INC</vt:lpwstr>
  </property>
</Properties>
</file>